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EEC-D856-4394-8DA5-B2E7503D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404-2771-4472-986A-B4A6533F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312-A732-4017-9330-6EE9CAAD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D56-B416-4CF5-958A-48E0D4C3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990-27DE-4A32-848C-F6CBF5B0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156-4706-4DEB-A1C9-509907BE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91C-2815-498F-8A77-15F6411F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8B5-A4FD-4E7D-B563-5847943F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376-1652-425D-B146-638C7DD9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4ED-639C-4CD5-AD83-7149BDF4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DEF-298F-4023-AEE3-8FF53F11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D22-7251-468D-B2D6-790AEA2D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8BD5-5AEA-463F-87EB-7DA1EE796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compare and contrast these two images.  How are they alike?  How are they differe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s the artist in each sit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or far away do the people in the artwork se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“real” do the people lo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guess how the pictures were made?  Do they look lik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s, drawings, prints or coll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140796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3808440"/>
            <a:ext cx="152100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you imagine a story about either of these artwork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your story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ction or non-ficti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it be an exciting mystery, a sad story, or a funny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ames would you give the woman or w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you put into the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1407960" cy="218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" y="3808440"/>
            <a:ext cx="152100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formation About the Art and the Arti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362320" y="1142640"/>
            <a:ext cx="63244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ist:  Mary Cassatt (Americ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44-192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tle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he Let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dium: Drypoint and aquat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ze: 13 5/8 x 8 5/1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e: 189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ents:  One of a set of ten prints exhibited toge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ist: Kunisada II (Japanese 1823 – 188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tle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Fuji no Uraba (Wisteria)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llustration of Chapter 33 from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ale of Genj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dium: Wood Block Pr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ze: 14” x 9 5/8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e: Circa 185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ents:  Wood block prints helped western cultures learn about the culture of Japa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61784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2200" y="3581280"/>
            <a:ext cx="173196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Arts: character’s feelings, story elements, main idea/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Studies:  roles in society, cultural con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 Art:  color, pattern, art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82760" y="990720"/>
            <a:ext cx="1795320" cy="279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97360" y="914400"/>
            <a:ext cx="1992600" cy="28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is an artwork by Mary Cass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51400" cy="4530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would be a good title for this artwor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woman do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o you think the artist created a work of art about thi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the setting of this artwork?</a:t>
            </a:r>
            <a:br>
              <a:rPr sz="3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your answ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woman sitting?  Is she at home or a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ntry do you think may 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 of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dicated by the furniture, clothing, or hair 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ime of day do you think it may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91312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ok very carefully at the artwork.  What details do you noti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ter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p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artist standing in relation to the woman?  Is the artist looking up or down at the wo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291312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does the artist want to tell us about the woman in the artwork?  Why do you think tha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04960" y="1828440"/>
            <a:ext cx="5181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her role in her culture?  Is she marr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ld is s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she have a fam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he feeling?  Is the letter about something very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mportant subjects do people write letters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52320" y="1905120"/>
            <a:ext cx="271800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another artwork about a woman and a letter. Look carefully at this im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is artwork?  Can you tell where and when this image is se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women at home, at work, or somewhere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vidence do you see that supports your 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668760" cy="46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are the women in this artwork?  What is their role in their culture?  How do you kn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 each of them is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 they might be saying o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women rich or poor?  What  clues do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668760" cy="46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your response or reaction to the women in these works of a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y seem familiar or strange to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imagine yourself in either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imagine that these are people in your family or people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1408320" cy="2189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882960"/>
            <a:ext cx="15206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origa M</cp:lastModifiedBy>
  <dcterms:modified xsi:type="dcterms:W3CDTF">2006-10-20T15:52:4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19693459</vt:r8>
  </property>
  <property fmtid="{D5CDD505-2E9C-101B-9397-08002B2CF9AE}" pid="4" name="_AuthorEmail">
    <vt:lpwstr>Georgia@cameronartmuseum.com</vt:lpwstr>
  </property>
  <property fmtid="{D5CDD505-2E9C-101B-9397-08002B2CF9AE}" pid="5" name="_AuthorEmailDisplayName">
    <vt:lpwstr>Georgia</vt:lpwstr>
  </property>
  <property fmtid="{D5CDD505-2E9C-101B-9397-08002B2CF9AE}" pid="6" name="_EmailSubject">
    <vt:lpwstr>lesson plans</vt:lpwstr>
  </property>
</Properties>
</file>